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jpeg" ContentType="image/jpeg"/>
  <Override PartName="/ppt/media/image9.png" ContentType="image/pn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FC13E-C010-49D4-B728-B26738611C36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22A35-3377-4E45-86B2-5E32A2546FE1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095AD-4F29-4520-98EE-4EBF3736F055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55DB6-2D42-4256-993A-DE89D56D392C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8CEFD-EEE8-4FB5-AD03-0DC7C41C1243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AD011-2C69-4E98-89E6-5554EC7FA092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C9174-B9CF-4064-B19E-55FB7DD41CCD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备注占位符 4"/>
          <p:cNvSpPr/>
          <p:nvPr/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B4F9A-894C-4146-98DD-AA2CE81D5C84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备注占位符 4"/>
          <p:cNvSpPr/>
          <p:nvPr/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FD786-3CA0-47AE-B6CB-8A8E80AFA143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D2779-430A-44BD-8167-813369A88648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0450A-463C-4C6D-AE50-64175B6F02C4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07CDE-8519-4768-AFF3-59BC6AB507F4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D0A6E-8ADE-4DAC-8137-94FD88A9BCC4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22014-EF90-4279-ABC9-78EA49B5CDE4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C88331-0BAF-4A70-964E-7FE1FB44689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19A136-0148-4917-B686-41BC37948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05E481-D286-40A3-8696-A150C6D76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71DB25-8D1F-4321-8645-630E493A6CC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24744B-6FFC-4275-A604-61915C8DD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94A0E8-C9DA-4E4B-B2CB-A63F2A5E7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95AA23-656E-4B07-80FA-6BC922E75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CB7221-DB2A-46D8-87EB-C0257D6D1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BB7895-3AA1-4D0D-A635-1279AC696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A9FD9F-539C-40E3-BB85-FA3203F0D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C4882E-7A1D-4D5B-926C-7D6AB05C3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CCB466-19F3-4D27-AAF0-139A95B04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20B27-785D-45CB-835A-35298E3ACF53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9360"/>
              <a:ext cx="9115560" cy="1808280"/>
              <a:chOff x="28440" y="5049360"/>
              <a:chExt cx="9115560" cy="180828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9360"/>
                <a:ext cx="9115560" cy="18082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936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4280"/>
              <a:chOff x="0" y="4689360"/>
              <a:chExt cx="9097920" cy="40428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20"/>
          <p:cNvSpPr/>
          <p:nvPr/>
        </p:nvSpPr>
        <p:spPr>
          <a:xfrm>
            <a:off x="1214280" y="5000760"/>
            <a:ext cx="632484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方正姚体"/>
                <a:ea typeface="方正姚体"/>
              </a:rPr>
              <a:t>北大医学部病原生物学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方正姚体"/>
                <a:ea typeface="方正姚体"/>
              </a:rPr>
              <a:t>  </a:t>
            </a:r>
            <a:r>
              <a:rPr b="1" lang="zh-CN" sz="2800" spc="-1" strike="noStrike">
                <a:solidFill>
                  <a:srgbClr val="ffff00"/>
                </a:solidFill>
                <a:latin typeface="方正姚体"/>
                <a:ea typeface="方正姚体"/>
              </a:rPr>
              <a:t>邹清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42600" y="221472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方正姚体"/>
                <a:ea typeface="方正姚体"/>
              </a:rPr>
              <a:t>第二十五章</a:t>
            </a:r>
            <a:br>
              <a:rPr sz="4000"/>
            </a:br>
            <a:r>
              <a:rPr b="1" lang="zh-CN" sz="4000" spc="-1" strike="noStrike">
                <a:solidFill>
                  <a:srgbClr val="ffff00"/>
                </a:solidFill>
                <a:latin typeface="方正姚体"/>
                <a:ea typeface="方正姚体"/>
              </a:rPr>
              <a:t>弧菌属与弯曲菌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2"/>
          <p:cNvSpPr/>
          <p:nvPr/>
        </p:nvSpPr>
        <p:spPr>
          <a:xfrm>
            <a:off x="500040" y="1857240"/>
            <a:ext cx="8358120" cy="32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c00000"/>
                </a:solidFill>
                <a:latin typeface="微软雅黑"/>
                <a:ea typeface="微软雅黑"/>
              </a:rPr>
              <a:t>传播途径：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通过污染的水源或食物经口摄入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c00000"/>
                </a:solidFill>
                <a:latin typeface="微软雅黑"/>
                <a:ea typeface="微软雅黑"/>
              </a:rPr>
              <a:t>传染源：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病人及无症状感染者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引起烈性肠道传染病霍乱，为我国</a:t>
            </a:r>
            <a:r>
              <a:rPr b="1" lang="zh-CN" sz="2600" spc="-1" strike="noStrike">
                <a:solidFill>
                  <a:srgbClr val="c00000"/>
                </a:solidFill>
                <a:latin typeface="微软雅黑"/>
                <a:ea typeface="微软雅黑"/>
              </a:rPr>
              <a:t>甲类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法定传染病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典型病例一般在吞食细菌后</a:t>
            </a:r>
            <a:r>
              <a:rPr b="1" lang="en-US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2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～</a:t>
            </a:r>
            <a:r>
              <a:rPr b="1" lang="en-US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3d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突然出现剧烈腹泻和呕吐，在疾病最严重时，每小时失水量可高达</a:t>
            </a:r>
            <a:r>
              <a:rPr b="1" lang="en-US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1L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，排出如</a:t>
            </a:r>
            <a:r>
              <a:rPr b="1" lang="zh-CN" sz="2600" spc="-1" strike="noStrike">
                <a:solidFill>
                  <a:srgbClr val="c00000"/>
                </a:solidFill>
                <a:latin typeface="微软雅黑"/>
                <a:ea typeface="微软雅黑"/>
              </a:rPr>
              <a:t>米泔水样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腹泻物。脱水，代谢性酸中毒，低碱血症和低容量性休克及心率不齐和肾衰竭，如未经治疗处理，病死率高达</a:t>
            </a:r>
            <a:r>
              <a:rPr b="1" lang="en-US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60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％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副霍乱弧菌所致疾病较古典生物型所致疾病症状要轻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矩形 2"/>
          <p:cNvSpPr/>
          <p:nvPr/>
        </p:nvSpPr>
        <p:spPr>
          <a:xfrm>
            <a:off x="3728880" y="928800"/>
            <a:ext cx="12412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spcAft>
                <a:spcPts val="45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致 病 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2"/>
          <p:cNvSpPr/>
          <p:nvPr/>
        </p:nvSpPr>
        <p:spPr>
          <a:xfrm>
            <a:off x="571680" y="2071800"/>
            <a:ext cx="7653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微软雅黑"/>
                <a:ea typeface="微软雅黑"/>
              </a:rPr>
              <a:t>   </a:t>
            </a:r>
            <a:r>
              <a:rPr b="1" lang="zh-CN" sz="3200" spc="-1" strike="noStrike">
                <a:solidFill>
                  <a:srgbClr val="002060"/>
                </a:solidFill>
                <a:latin typeface="微软雅黑"/>
                <a:ea typeface="微软雅黑"/>
              </a:rPr>
              <a:t>患过霍乱的人可获得牢固的免疫力，再感染者少见。  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微软雅黑"/>
                <a:ea typeface="微软雅黑"/>
              </a:rPr>
              <a:t>    </a:t>
            </a:r>
            <a:r>
              <a:rPr b="1" lang="zh-CN" sz="3200" spc="-1" strike="noStrike">
                <a:solidFill>
                  <a:srgbClr val="002060"/>
                </a:solidFill>
                <a:latin typeface="微软雅黑"/>
                <a:ea typeface="微软雅黑"/>
              </a:rPr>
              <a:t>病人发病后数日内，血液中即出现特异性抗体。一般认为起主要作用的是</a:t>
            </a:r>
            <a:r>
              <a:rPr b="1" lang="en-US" sz="3200" spc="-1" strike="noStrike">
                <a:solidFill>
                  <a:srgbClr val="002060"/>
                </a:solidFill>
                <a:latin typeface="微软雅黑"/>
                <a:ea typeface="微软雅黑"/>
              </a:rPr>
              <a:t>SIgA</a:t>
            </a:r>
            <a:r>
              <a:rPr b="1" lang="zh-CN" sz="32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，可保护肠粘膜免受霍乱弧菌及肠毒素侵袭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矩形 2"/>
          <p:cNvSpPr/>
          <p:nvPr/>
        </p:nvSpPr>
        <p:spPr>
          <a:xfrm>
            <a:off x="3569040" y="1143000"/>
            <a:ext cx="100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spcAft>
                <a:spcPts val="29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免疫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2"/>
          <p:cNvSpPr/>
          <p:nvPr/>
        </p:nvSpPr>
        <p:spPr>
          <a:xfrm>
            <a:off x="714240" y="1643040"/>
            <a:ext cx="81219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霍乱是烈性传染病，发现病人应尽快确诊，及时上报疫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标本：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取患者“米泔水”样粪便或呕吐物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镜检：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悬滴法检查有无“鱼群”样穿梭运动的弧菌。 革兰染色后观察细菌形态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培养：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标本接种于碱性蛋白胨水鉴定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快速诊断方法有免疫荧光法、协同凝集试验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矩形 2"/>
          <p:cNvSpPr/>
          <p:nvPr/>
        </p:nvSpPr>
        <p:spPr>
          <a:xfrm>
            <a:off x="2000160" y="857160"/>
            <a:ext cx="471492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微生物学检查法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2"/>
          <p:cNvSpPr/>
          <p:nvPr/>
        </p:nvSpPr>
        <p:spPr>
          <a:xfrm>
            <a:off x="857160" y="1857240"/>
            <a:ext cx="7923240" cy="23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       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坚持</a:t>
            </a:r>
            <a:r>
              <a:rPr b="1" lang="zh-CN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预防为主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，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“标本兼治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, 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综合治理”的原则，对疫区应采取以切断传播途径为主导的综合性措施。对患者和带菌者按我国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《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传染病防治法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》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及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《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霍乱防治手册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》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的有关规定处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       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由于疫苗免疫持续时间较短，另外能预防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O1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群也能预防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O139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群霍乱的高效疫苗尚未研制成功，因此对健康人群暂未推行霍乱菌苗的常规预防注射。</a:t>
            </a:r>
            <a:r>
              <a:rPr b="0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       </a:t>
            </a:r>
            <a:r>
              <a:rPr b="1" lang="zh-CN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治疗：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及时和适当的补充液体，纠正电解质平衡紊乱，是治疗霍乱的关键。常用的抗生素有强力霉素、氯霉素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矩形 2"/>
          <p:cNvSpPr/>
          <p:nvPr/>
        </p:nvSpPr>
        <p:spPr>
          <a:xfrm>
            <a:off x="3411720" y="1071720"/>
            <a:ext cx="175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防 治 原 则</a:t>
            </a:r>
            <a:r>
              <a:rPr b="1" lang="zh-CN" sz="3600" spc="-1" strike="noStrike">
                <a:solidFill>
                  <a:srgbClr val="9900cc"/>
                </a:solidFill>
                <a:latin typeface="微软雅黑"/>
                <a:ea typeface="微软雅黑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2"/>
          <p:cNvSpPr/>
          <p:nvPr/>
        </p:nvSpPr>
        <p:spPr>
          <a:xfrm>
            <a:off x="500040" y="2428920"/>
            <a:ext cx="8389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是一种嗜盐性细菌，存在于近海岸的海水、海底沉积物和鱼类、贝类等海产品中，可引起食物中毒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其特点是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（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1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）食入被细菌污染的海产品或淹渍品，或炊具、食物容器被污染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（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2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）潜伏期短（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2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～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26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小时），恢复快，病后免疫力不强；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（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3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）临床主要症状为腹痛、呕吐、腹泻与发热，多为水样便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矩形 2"/>
          <p:cNvSpPr/>
          <p:nvPr/>
        </p:nvSpPr>
        <p:spPr>
          <a:xfrm>
            <a:off x="928800" y="928800"/>
            <a:ext cx="580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 </a:t>
            </a: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副溶血性弧菌  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（</a:t>
            </a:r>
            <a:r>
              <a:rPr b="1" lang="en-US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V. parahemolyticus</a:t>
            </a: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矩形 2"/>
          <p:cNvSpPr/>
          <p:nvPr/>
        </p:nvSpPr>
        <p:spPr>
          <a:xfrm>
            <a:off x="928800" y="928800"/>
            <a:ext cx="655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 </a:t>
            </a: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弯曲菌属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（</a:t>
            </a:r>
            <a:r>
              <a:rPr b="1" lang="en-US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Campylobacter</a:t>
            </a: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Text Box 2"/>
          <p:cNvSpPr/>
          <p:nvPr/>
        </p:nvSpPr>
        <p:spPr>
          <a:xfrm>
            <a:off x="500040" y="2428920"/>
            <a:ext cx="8389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是一类呈逗点状或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S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形的革兰阴性菌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对人致病的主要有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空肠弯曲菌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——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导致散发性细菌性肠炎，部分血清型与格林巴利综合征有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胎儿弯曲菌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——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引起牛、羊流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3"/>
          <p:cNvSpPr/>
          <p:nvPr/>
        </p:nvSpPr>
        <p:spPr>
          <a:xfrm>
            <a:off x="1285920" y="1500120"/>
            <a:ext cx="6313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螺杆菌属</a:t>
            </a:r>
            <a:r>
              <a:rPr b="1" lang="en-US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- </a:t>
            </a: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幽门螺杆菌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( Helicobacter pylori )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Text Box 6"/>
          <p:cNvSpPr/>
          <p:nvPr/>
        </p:nvSpPr>
        <p:spPr>
          <a:xfrm>
            <a:off x="468360" y="3286080"/>
            <a:ext cx="8104320" cy="19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5000"/>
              </a:lnSpc>
              <a:spcAft>
                <a:spcPts val="901"/>
              </a:spcAft>
              <a:buClr>
                <a:srgbClr val="ff0000"/>
              </a:buClr>
              <a:buFont typeface="Arial Narrow"/>
              <a:buChar char="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革兰氏阴性，呈螺旋形、</a:t>
            </a:r>
            <a:r>
              <a:rPr b="1" lang="en-US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S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5000"/>
              </a:lnSpc>
              <a:spcAft>
                <a:spcPts val="901"/>
              </a:spcAft>
              <a:buClr>
                <a:srgbClr val="ff0000"/>
              </a:buClr>
              <a:buFont typeface="Arial Narrow"/>
              <a:buChar char="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单端</a:t>
            </a:r>
            <a:r>
              <a:rPr b="1" lang="en-US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4~8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根鞭毛，运动活泼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5000"/>
              </a:lnSpc>
              <a:spcAft>
                <a:spcPts val="901"/>
              </a:spcAft>
              <a:buClr>
                <a:srgbClr val="ff0000"/>
              </a:buClr>
              <a:buFont typeface="Arial Narrow"/>
              <a:buChar char="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菌体内富含尿素酶（</a:t>
            </a:r>
            <a:r>
              <a:rPr b="1" lang="en-US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urease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），其检测可辅助快速诊断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5000"/>
              </a:lnSpc>
              <a:spcAft>
                <a:spcPts val="901"/>
              </a:spcAft>
              <a:buClr>
                <a:srgbClr val="ff0000"/>
              </a:buClr>
              <a:buFont typeface="Arial Narrow"/>
              <a:buChar char="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与慢性胃炎、消耗性溃疡关系密切，是胃癌发生的重要致病因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0" name="Picture 10" descr=""/>
          <p:cNvPicPr/>
          <p:nvPr/>
        </p:nvPicPr>
        <p:blipFill>
          <a:blip r:embed="rId1"/>
          <a:stretch/>
        </p:blipFill>
        <p:spPr>
          <a:xfrm rot="17431200">
            <a:off x="6032880" y="2627640"/>
            <a:ext cx="1935360" cy="217512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http://southmed.usouthal.edu/com/micro/faculty/mcgeefig2.jpg"/>
          <p:cNvPicPr/>
          <p:nvPr/>
        </p:nvPicPr>
        <p:blipFill>
          <a:blip r:embed="rId1"/>
          <a:srcRect l="2118" t="806" r="3328" b="4032"/>
          <a:stretch/>
        </p:blipFill>
        <p:spPr>
          <a:xfrm>
            <a:off x="128520" y="158760"/>
            <a:ext cx="7683480" cy="521496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8"/>
          <p:cNvSpPr/>
          <p:nvPr/>
        </p:nvSpPr>
        <p:spPr>
          <a:xfrm>
            <a:off x="0" y="5635800"/>
            <a:ext cx="9144000" cy="5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994 </a:t>
            </a: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年，</a:t>
            </a:r>
            <a:r>
              <a:rPr b="1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WHO</a:t>
            </a: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国际癌症研究机构正式将</a:t>
            </a:r>
            <a:r>
              <a:rPr b="1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HP</a:t>
            </a: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感染列为第一类</a:t>
            </a:r>
            <a:r>
              <a:rPr b="1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(</a:t>
            </a: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即肯定的</a:t>
            </a:r>
            <a:r>
              <a:rPr b="1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) </a:t>
            </a: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致癌因子，是目前为止唯一被列为致癌因子的原核细胞型微生物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矩形 3"/>
          <p:cNvSpPr/>
          <p:nvPr/>
        </p:nvSpPr>
        <p:spPr>
          <a:xfrm>
            <a:off x="7556400" y="1833480"/>
            <a:ext cx="165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黑体"/>
              </a:rPr>
              <a:t>胃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矩形 4"/>
          <p:cNvSpPr/>
          <p:nvPr/>
        </p:nvSpPr>
        <p:spPr>
          <a:xfrm>
            <a:off x="7556400" y="2905200"/>
            <a:ext cx="158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黑体"/>
              </a:rPr>
              <a:t>胃溃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矩形 5"/>
          <p:cNvSpPr/>
          <p:nvPr/>
        </p:nvSpPr>
        <p:spPr>
          <a:xfrm>
            <a:off x="7812000" y="4149720"/>
            <a:ext cx="120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黑体"/>
              </a:rPr>
              <a:t>胃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156" name="直接箭头连接符 7"/>
          <p:cNvCxnSpPr/>
          <p:nvPr/>
        </p:nvCxnSpPr>
        <p:spPr>
          <a:xfrm>
            <a:off x="8387280" y="2420640"/>
            <a:ext cx="1080" cy="478440"/>
          </a:xfrm>
          <a:prstGeom prst="straightConnector1">
            <a:avLst/>
          </a:prstGeom>
          <a:ln w="38160">
            <a:solidFill>
              <a:srgbClr val="046ca6"/>
            </a:solidFill>
            <a:miter/>
            <a:tailEnd len="med" type="arrow" w="med"/>
          </a:ln>
        </p:spPr>
      </p:cxnSp>
      <p:cxnSp>
        <p:nvCxnSpPr>
          <p:cNvPr id="157" name="直接箭头连接符 8"/>
          <p:cNvCxnSpPr/>
          <p:nvPr/>
        </p:nvCxnSpPr>
        <p:spPr>
          <a:xfrm>
            <a:off x="8387280" y="3499920"/>
            <a:ext cx="1080" cy="477000"/>
          </a:xfrm>
          <a:prstGeom prst="straightConnector1">
            <a:avLst/>
          </a:prstGeom>
          <a:ln w="38160">
            <a:solidFill>
              <a:srgbClr val="046ca6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785520" y="2357280"/>
            <a:ext cx="742932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霍乱弧菌生物学特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700"/>
              </a:spcBef>
              <a:buClr>
                <a:srgbClr val="00206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霍乱弧菌肠毒素（ </a:t>
            </a:r>
            <a:r>
              <a:rPr b="1" lang="en-US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cholera toxin 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）的致病机理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和所致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700"/>
              </a:spcBef>
              <a:buClr>
                <a:srgbClr val="00206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空肠弯曲菌可导致格林巴利综合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700"/>
              </a:spcBef>
              <a:buClr>
                <a:srgbClr val="00206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幽门螺杆菌是导致胃癌的重要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9" name="矩形 4"/>
          <p:cNvSpPr/>
          <p:nvPr/>
        </p:nvSpPr>
        <p:spPr>
          <a:xfrm>
            <a:off x="3750840" y="1071720"/>
            <a:ext cx="156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微软雅黑"/>
                <a:ea typeface="微软雅黑"/>
              </a:rPr>
              <a:t>小       结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>
            <a:off x="428760" y="1214280"/>
            <a:ext cx="8275680" cy="27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弧菌属（</a:t>
            </a:r>
            <a:r>
              <a:rPr b="1" lang="en-US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Vibrio</a:t>
            </a:r>
            <a:r>
              <a:rPr b="1" lang="zh-CN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）</a:t>
            </a:r>
            <a:r>
              <a:rPr b="1" lang="zh-CN" sz="2800" spc="-1" strike="noStrike">
                <a:solidFill>
                  <a:srgbClr val="99669b"/>
                </a:solidFill>
                <a:latin typeface="微软雅黑"/>
                <a:ea typeface="微软雅黑"/>
              </a:rPr>
              <a:t> 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细菌是一大群短小、弯曲成弧形或逗点状的革兰阴性菌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本属细菌的主要特点是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（</a:t>
            </a:r>
            <a:r>
              <a:rPr b="1" lang="en-US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1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）适合生长在</a:t>
            </a: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碱性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培养基中，具有单端单鞭毛，运动活泼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（</a:t>
            </a:r>
            <a:r>
              <a:rPr b="1" lang="en-US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2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）细菌种类多，对人致病的主要有</a:t>
            </a: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霍乱弧菌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和</a:t>
            </a: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副溶血性弧菌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2"/>
          <p:cNvSpPr/>
          <p:nvPr/>
        </p:nvSpPr>
        <p:spPr>
          <a:xfrm>
            <a:off x="928800" y="1214280"/>
            <a:ext cx="724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微软雅黑"/>
                <a:ea typeface="微软雅黑"/>
              </a:rPr>
              <a:t>霍乱弧菌</a:t>
            </a:r>
            <a:r>
              <a:rPr b="1" lang="en-US" sz="4000" spc="-1" strike="noStrike">
                <a:solidFill>
                  <a:srgbClr val="cc0000"/>
                </a:solidFill>
                <a:latin typeface="微软雅黑"/>
                <a:ea typeface="微软雅黑"/>
              </a:rPr>
              <a:t>(</a:t>
            </a:r>
            <a:r>
              <a:rPr b="1" i="1" lang="en-US" sz="4000" spc="-1" strike="noStrike">
                <a:solidFill>
                  <a:srgbClr val="cc0000"/>
                </a:solidFill>
                <a:latin typeface="微软雅黑"/>
                <a:ea typeface="微软雅黑"/>
              </a:rPr>
              <a:t>V. Cholera)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677880" y="2276640"/>
            <a:ext cx="797544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微软雅黑"/>
                <a:ea typeface="微软雅黑"/>
              </a:rPr>
              <a:t>霍乱弧菌（</a:t>
            </a:r>
            <a:r>
              <a:rPr b="1" lang="en-US" sz="3200" spc="-1" strike="noStrike">
                <a:solidFill>
                  <a:srgbClr val="cc0000"/>
                </a:solidFill>
                <a:latin typeface="微软雅黑"/>
                <a:ea typeface="微软雅黑"/>
              </a:rPr>
              <a:t>V. cholera</a:t>
            </a:r>
            <a:r>
              <a:rPr b="1" lang="zh-CN" sz="3200" spc="-1" strike="noStrike">
                <a:solidFill>
                  <a:srgbClr val="cc0000"/>
                </a:solidFill>
                <a:latin typeface="微软雅黑"/>
                <a:ea typeface="微软雅黑"/>
              </a:rPr>
              <a:t>）</a:t>
            </a:r>
            <a:r>
              <a:rPr b="1" lang="zh-CN" sz="3200" spc="-1" strike="noStrike">
                <a:solidFill>
                  <a:srgbClr val="002060"/>
                </a:solidFill>
                <a:latin typeface="微软雅黑"/>
                <a:ea typeface="微软雅黑"/>
              </a:rPr>
              <a:t>是引起霍乱的病原菌。霍乱是一种烈性消化道传染病，属国际检疫的传染病，曾发生</a:t>
            </a:r>
            <a:r>
              <a:rPr b="1" lang="en-US" sz="3200" spc="-1" strike="noStrike">
                <a:solidFill>
                  <a:srgbClr val="002060"/>
                </a:solidFill>
                <a:latin typeface="微软雅黑"/>
                <a:ea typeface="微软雅黑"/>
              </a:rPr>
              <a:t>7</a:t>
            </a:r>
            <a:r>
              <a:rPr b="1" lang="zh-CN" sz="3200" spc="-1" strike="noStrike">
                <a:solidFill>
                  <a:srgbClr val="002060"/>
                </a:solidFill>
                <a:latin typeface="微软雅黑"/>
                <a:ea typeface="微软雅黑"/>
              </a:rPr>
              <a:t>次世界性大流行。主要表现为剧烈地呕吐、腹泻、脱水，重者可导致死亡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2"/>
          <p:cNvSpPr/>
          <p:nvPr/>
        </p:nvSpPr>
        <p:spPr>
          <a:xfrm>
            <a:off x="428760" y="2571840"/>
            <a:ext cx="5943600" cy="12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短小弧形或直线型，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G</a:t>
            </a:r>
            <a:r>
              <a:rPr b="1" lang="en-US" sz="2400" spc="-1" strike="noStrike" baseline="30000">
                <a:solidFill>
                  <a:srgbClr val="002060"/>
                </a:solidFill>
                <a:latin typeface="微软雅黑"/>
                <a:ea typeface="微软雅黑"/>
              </a:rPr>
              <a:t>-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杆菌，产氧化酶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单鞭毛，运动活泼，无芽胞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Text Box 3"/>
          <p:cNvSpPr/>
          <p:nvPr/>
        </p:nvSpPr>
        <p:spPr>
          <a:xfrm>
            <a:off x="857160" y="1143000"/>
            <a:ext cx="489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微软雅黑"/>
                <a:ea typeface="微软雅黑"/>
              </a:rPr>
              <a:t>霍乱弧菌生物学性状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357120" y="3786120"/>
            <a:ext cx="47149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 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病人粪便标本做</a:t>
            </a:r>
            <a:r>
              <a:rPr b="1" lang="zh-CN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悬滴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观察，成</a:t>
            </a:r>
            <a:r>
              <a:rPr b="1" lang="zh-CN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“鱼群”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样穿梭运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Rectangle 5"/>
          <p:cNvSpPr/>
          <p:nvPr/>
        </p:nvSpPr>
        <p:spPr>
          <a:xfrm>
            <a:off x="898560" y="200016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微软雅黑"/>
                <a:ea typeface="微软雅黑"/>
              </a:rPr>
              <a:t>形态与染色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0" name="Picture 6" descr=""/>
          <p:cNvPicPr/>
          <p:nvPr/>
        </p:nvPicPr>
        <p:blipFill>
          <a:blip r:embed="rId1"/>
          <a:stretch/>
        </p:blipFill>
        <p:spPr>
          <a:xfrm>
            <a:off x="5072040" y="4000680"/>
            <a:ext cx="3649680" cy="24811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7" descr=""/>
          <p:cNvPicPr/>
          <p:nvPr/>
        </p:nvPicPr>
        <p:blipFill>
          <a:blip r:embed="rId2"/>
          <a:srcRect l="4978" t="4757" r="5688" b="6451"/>
          <a:stretch/>
        </p:blipFill>
        <p:spPr>
          <a:xfrm>
            <a:off x="6143760" y="1285920"/>
            <a:ext cx="2376360" cy="26272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9" descr="images"/>
          <p:cNvPicPr/>
          <p:nvPr/>
        </p:nvPicPr>
        <p:blipFill>
          <a:blip r:embed="rId3"/>
          <a:stretch/>
        </p:blipFill>
        <p:spPr>
          <a:xfrm>
            <a:off x="714240" y="4929120"/>
            <a:ext cx="3743640" cy="155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霍乱弧菌－3"/>
          <p:cNvPicPr/>
          <p:nvPr/>
        </p:nvPicPr>
        <p:blipFill>
          <a:blip r:embed="rId1"/>
          <a:srcRect l="31425" t="1290" r="20855" b="20586"/>
          <a:stretch/>
        </p:blipFill>
        <p:spPr>
          <a:xfrm>
            <a:off x="1000080" y="1428840"/>
            <a:ext cx="2541600" cy="381312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3"/>
          <p:cNvSpPr/>
          <p:nvPr/>
        </p:nvSpPr>
        <p:spPr>
          <a:xfrm>
            <a:off x="911880" y="5373720"/>
            <a:ext cx="3098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2060"/>
                </a:solidFill>
                <a:latin typeface="微软雅黑"/>
                <a:ea typeface="微软雅黑"/>
              </a:rPr>
              <a:t>V. cholerae</a:t>
            </a:r>
            <a:r>
              <a:rPr b="1" lang="zh-CN" sz="2000" spc="-1" strike="noStrike">
                <a:solidFill>
                  <a:srgbClr val="002060"/>
                </a:solidFill>
                <a:latin typeface="微软雅黑"/>
                <a:ea typeface="微软雅黑"/>
              </a:rPr>
              <a:t>在</a:t>
            </a:r>
            <a:r>
              <a:rPr b="1" lang="zh-CN" sz="2000" spc="-1" strike="noStrike">
                <a:solidFill>
                  <a:srgbClr val="cc3300"/>
                </a:solidFill>
                <a:latin typeface="微软雅黑"/>
                <a:ea typeface="微软雅黑"/>
              </a:rPr>
              <a:t>碱性蛋白胨水培养基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2060"/>
                </a:solidFill>
                <a:latin typeface="微软雅黑"/>
                <a:ea typeface="微软雅黑"/>
              </a:rPr>
              <a:t>中生长。液体呈均匀混浊，有菌膜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（</a:t>
            </a:r>
            <a:r>
              <a:rPr b="1" lang="en-US" sz="2000" spc="-1" strike="noStrike">
                <a:solidFill>
                  <a:srgbClr val="002060"/>
                </a:solidFill>
                <a:latin typeface="微软雅黑"/>
                <a:ea typeface="微软雅黑"/>
              </a:rPr>
              <a:t>6</a:t>
            </a:r>
            <a:r>
              <a:rPr b="1" lang="zh-CN" sz="2000" spc="-1" strike="noStrike">
                <a:solidFill>
                  <a:srgbClr val="002060"/>
                </a:solidFill>
                <a:latin typeface="微软雅黑"/>
                <a:ea typeface="微软雅黑"/>
              </a:rPr>
              <a:t>～</a:t>
            </a:r>
            <a:r>
              <a:rPr b="1" lang="en-US" sz="2000" spc="-1" strike="noStrike">
                <a:solidFill>
                  <a:srgbClr val="002060"/>
                </a:solidFill>
                <a:latin typeface="微软雅黑"/>
                <a:ea typeface="微软雅黑"/>
              </a:rPr>
              <a:t>8h</a:t>
            </a:r>
            <a:r>
              <a:rPr b="1" lang="zh-CN" sz="20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），左侧为阴性对照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4143240" y="2214720"/>
            <a:ext cx="457200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需氧，营养要求不高。耐碱不耐酸，在</a:t>
            </a:r>
            <a:r>
              <a:rPr b="1" lang="en-US" sz="2400" spc="-1" strike="noStrike">
                <a:solidFill>
                  <a:srgbClr val="cc3300"/>
                </a:solidFill>
                <a:latin typeface="微软雅黑"/>
                <a:ea typeface="微软雅黑"/>
              </a:rPr>
              <a:t>pH8.4</a:t>
            </a:r>
            <a:r>
              <a:rPr b="1" lang="zh-CN" sz="2400" spc="-1" strike="noStrike">
                <a:solidFill>
                  <a:srgbClr val="cc3300"/>
                </a:solidFill>
                <a:latin typeface="微软雅黑"/>
                <a:ea typeface="微软雅黑"/>
              </a:rPr>
              <a:t>～</a:t>
            </a:r>
            <a:r>
              <a:rPr b="1" lang="en-US" sz="2400" spc="-1" strike="noStrike">
                <a:solidFill>
                  <a:srgbClr val="cc3300"/>
                </a:solidFill>
                <a:latin typeface="微软雅黑"/>
                <a:ea typeface="微软雅黑"/>
              </a:rPr>
              <a:t>9.0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的</a:t>
            </a:r>
            <a:r>
              <a:rPr b="1" lang="zh-CN" sz="2400" spc="-1" strike="noStrike">
                <a:solidFill>
                  <a:srgbClr val="cc3300"/>
                </a:solidFill>
                <a:latin typeface="微软雅黑"/>
                <a:ea typeface="微软雅黑"/>
              </a:rPr>
              <a:t>碱性蛋白胨水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或</a:t>
            </a:r>
            <a:r>
              <a:rPr b="1" lang="zh-CN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碱性琼脂平板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上生长良好。故常用</a:t>
            </a:r>
            <a:r>
              <a:rPr b="1" lang="zh-CN" sz="2400" spc="-1" strike="noStrike">
                <a:solidFill>
                  <a:srgbClr val="cc3300"/>
                </a:solidFill>
                <a:latin typeface="微软雅黑"/>
                <a:ea typeface="微软雅黑"/>
              </a:rPr>
              <a:t>碱性蛋白胨水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作为选择性增殖霍乱弧菌的培养基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Rectangle 5"/>
          <p:cNvSpPr/>
          <p:nvPr/>
        </p:nvSpPr>
        <p:spPr>
          <a:xfrm>
            <a:off x="5510160" y="1500120"/>
            <a:ext cx="120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微软雅黑"/>
                <a:ea typeface="微软雅黑"/>
              </a:rPr>
              <a:t>培    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"/>
          <p:cNvPicPr/>
          <p:nvPr/>
        </p:nvPicPr>
        <p:blipFill>
          <a:blip r:embed="rId1"/>
          <a:srcRect l="13608" t="0" r="3160" b="0"/>
          <a:stretch/>
        </p:blipFill>
        <p:spPr>
          <a:xfrm>
            <a:off x="3708360" y="836640"/>
            <a:ext cx="5257800" cy="518472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3"/>
          <p:cNvSpPr/>
          <p:nvPr/>
        </p:nvSpPr>
        <p:spPr>
          <a:xfrm>
            <a:off x="357120" y="1571760"/>
            <a:ext cx="3276720" cy="3824280"/>
          </a:xfrm>
          <a:prstGeom prst="rect">
            <a:avLst/>
          </a:prstGeom>
          <a:noFill/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选择培养基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TCB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（硫代硫酸盐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-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橼酸盐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-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胆盐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-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蔗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琼脂平板）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00"/>
                </a:solidFill>
                <a:latin typeface="微软雅黑"/>
                <a:ea typeface="微软雅黑"/>
              </a:rPr>
              <a:t>霍乱弧菌形成较大菌落，发酵蔗糖产酸使菌落呈黄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2"/>
          <p:cNvSpPr/>
          <p:nvPr/>
        </p:nvSpPr>
        <p:spPr>
          <a:xfrm>
            <a:off x="785880" y="2643120"/>
            <a:ext cx="7572240" cy="18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霍乱弧菌有菌体抗原（</a:t>
            </a:r>
            <a:r>
              <a:rPr b="1" lang="en-US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O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抗原）和鞭毛抗原（</a:t>
            </a:r>
            <a:r>
              <a:rPr b="1" lang="en-US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H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抗原）。</a:t>
            </a:r>
            <a:r>
              <a:rPr b="1" lang="en-US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H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抗原与其它弧菌的</a:t>
            </a:r>
            <a:r>
              <a:rPr b="1" lang="en-US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H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抗原相同，无特异性。</a:t>
            </a:r>
            <a:r>
              <a:rPr b="1" lang="en-US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O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抗原特异性高，根据</a:t>
            </a:r>
            <a:r>
              <a:rPr b="1" lang="en-US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O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抗原的不同将其分为</a:t>
            </a:r>
            <a:r>
              <a:rPr b="1" lang="en-US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150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余个血清群，其中 </a:t>
            </a:r>
            <a:r>
              <a:rPr b="1" lang="en-US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O1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群、</a:t>
            </a:r>
            <a:r>
              <a:rPr b="1" lang="en-US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O139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群引起霍乱。 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矩形 3"/>
          <p:cNvSpPr/>
          <p:nvPr/>
        </p:nvSpPr>
        <p:spPr>
          <a:xfrm>
            <a:off x="2428920" y="1500120"/>
            <a:ext cx="395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微软雅黑"/>
                <a:ea typeface="微软雅黑"/>
              </a:rPr>
              <a:t>抗原构造与分型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2"/>
          <p:cNvSpPr/>
          <p:nvPr/>
        </p:nvSpPr>
        <p:spPr>
          <a:xfrm>
            <a:off x="533520" y="2133720"/>
            <a:ext cx="8215200" cy="24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霍乱弧菌对热及消毒剂抵抗力弱，</a:t>
            </a:r>
            <a:r>
              <a:rPr b="1" lang="en-US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55℃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湿热</a:t>
            </a:r>
            <a:r>
              <a:rPr b="1" lang="en-US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15min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死亡，对酸的抵抗力更弱，在正常胃酸中仅能存活</a:t>
            </a:r>
            <a:r>
              <a:rPr b="1" lang="en-US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4min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，该菌在河水中能存活较长时间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霍乱弧菌对氯敏感，</a:t>
            </a:r>
            <a:r>
              <a:rPr b="1" lang="zh-CN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漂白粉处理排泄物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可达消毒目的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EI Tor 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生物型比古典生物型的抵抗力强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Rectangle 5"/>
          <p:cNvSpPr/>
          <p:nvPr/>
        </p:nvSpPr>
        <p:spPr>
          <a:xfrm>
            <a:off x="3935520" y="1125360"/>
            <a:ext cx="12412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spcAft>
                <a:spcPts val="45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抵 抗 力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2"/>
          <p:cNvSpPr/>
          <p:nvPr/>
        </p:nvSpPr>
        <p:spPr>
          <a:xfrm>
            <a:off x="571680" y="1714680"/>
            <a:ext cx="8143560" cy="20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Aft>
                <a:spcPts val="35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黑体"/>
                <a:ea typeface="黑体"/>
              </a:rPr>
              <a:t>1.</a:t>
            </a: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鞭毛与菌毛</a:t>
            </a:r>
            <a:r>
              <a:rPr b="1" lang="zh-CN" sz="2800" spc="-1" strike="noStrike">
                <a:solidFill>
                  <a:srgbClr val="c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宋体"/>
              </a:rPr>
              <a:t>pili and flagella</a:t>
            </a:r>
            <a:r>
              <a:rPr b="1" lang="zh-CN" sz="2800" spc="-1" strike="noStrike">
                <a:solidFill>
                  <a:srgbClr val="c00000"/>
                </a:solidFill>
                <a:latin typeface="Times New Roman"/>
                <a:ea typeface="宋体"/>
              </a:rPr>
              <a:t>）：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细菌进入小肠后，依靠活泼的鞭毛运动穿过粘膜表面的粘液层，通过菌毛粘附于肠壁上皮细胞刷状缘的微绒毛上，并在其上繁殖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黑体"/>
                <a:ea typeface="黑体"/>
              </a:rPr>
              <a:t>2.</a:t>
            </a: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霍乱肠毒素</a:t>
            </a:r>
            <a:r>
              <a:rPr b="1" lang="zh-CN" sz="2800" spc="-1" strike="noStrike">
                <a:solidFill>
                  <a:srgbClr val="c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宋体"/>
              </a:rPr>
              <a:t>cholera enterotoxin</a:t>
            </a:r>
            <a:r>
              <a:rPr b="1" lang="zh-CN" sz="2800" spc="-1" strike="noStrike">
                <a:solidFill>
                  <a:srgbClr val="c00000"/>
                </a:solidFill>
                <a:latin typeface="Times New Roman"/>
                <a:ea typeface="宋体"/>
              </a:rPr>
              <a:t>，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宋体"/>
              </a:rPr>
              <a:t>CTX</a:t>
            </a:r>
            <a:r>
              <a:rPr b="1" lang="zh-CN" sz="2800" spc="-1" strike="noStrike">
                <a:solidFill>
                  <a:srgbClr val="c00000"/>
                </a:solidFill>
                <a:latin typeface="Times New Roman"/>
                <a:ea typeface="宋体"/>
              </a:rPr>
              <a:t>）：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外毒素，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作用于腺苷环化酶，使细胞内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ATP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转变为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cAMP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，促进肠粘膜细胞的分泌功能，肠液大量分泌，导致严重腹泻和呕吐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矩形 2"/>
          <p:cNvSpPr/>
          <p:nvPr/>
        </p:nvSpPr>
        <p:spPr>
          <a:xfrm>
            <a:off x="3809160" y="928800"/>
            <a:ext cx="12780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spcAft>
                <a:spcPts val="45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致病物质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mingzhe</cp:lastModifiedBy>
  <dcterms:modified xsi:type="dcterms:W3CDTF">2015-08-26T05:55:23Z</dcterms:modified>
  <cp:revision>85</cp:revision>
  <dc:subject/>
  <dc:title>内科护理学</dc:title>
</cp:coreProperties>
</file>